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2DF-EFDB-4DCC-94DB-3B612610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289-2C9B-4A45-9387-4323C9B3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35A-48EC-452D-9D25-D163B35C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C46-82E7-40A1-88BC-835B999A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DFD4-9A18-44A4-803E-2B49BF2A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B83C-5BD5-4E3B-A10B-BC68755C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135A-F937-4921-8B56-DAE6B7BC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B5EF-4B26-478E-8A36-75DE377C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934A-6A49-4578-8D26-A16A49DF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96D3-E329-4C4B-A810-0581F82D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9B70-5B62-489F-B27A-D2A54AC9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541-C32A-4FA8-BD72-39E13BDC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B4E-FD2E-497F-9353-FEA18314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55FB-B0C6-4DC3-8955-520CEFAD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FEB-E504-4BDD-A7FC-59BCF70D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FC2C-C184-4355-82DE-760FDC83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4885-F772-4919-AE0B-92E22F67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9BF-F6DA-4744-948D-5A0921BF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AE6-47C5-48BC-BA08-6FAB8735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145-2618-4A8D-BDF4-50ACDD58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3FD-EBE6-41E5-92D6-C0B21B48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184-869D-4879-8247-21EF331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FED-2944-48E8-9D79-5F64E8D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5D4-5090-42EB-951B-22DEA4F4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B86B-7A35-4E45-AB78-DED289D29E1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B3A5-C966-4B10-83E7-A37E388A6D0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1828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6666"/>
                </a:solidFill>
                <a:latin typeface="Verdana"/>
              </a:rPr>
              <a:t>Sistemas sanitarios</a:t>
            </a:r>
            <a:br>
              <a:rPr sz="4300"/>
            </a:br>
            <a:r>
              <a:rPr b="1" lang="es-ES" sz="4300" spc="-1" strike="noStrike">
                <a:solidFill>
                  <a:srgbClr val="006666"/>
                </a:solidFill>
                <a:latin typeface="Verdana"/>
              </a:rPr>
              <a:t>español y rumano</a:t>
            </a:r>
            <a:r>
              <a:rPr b="1" lang="ro-RO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212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Bianca Vitalaru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4941720"/>
            <a:ext cx="1944720" cy="83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42920" y="4735440"/>
            <a:ext cx="244944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Verdana"/>
              </a:rPr>
              <a:t>Legislación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e rige por un modelo de servicio público nacional, financiado por los impuestos de todos y al que todos los habitantes tienen acces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Ley 145/1997: modelo de seguridad social tipo Bismark, contribución obligatoria al Sistema de Seguridad Social, solidarida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istema descentralizado (art. 63 – Legea nr. 145/1997)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Instituto Nacional de la Seguridad Social (Casa Naţionalặ de Asigurặri de Sặnặtat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Casas provinciales de seguridad social (Case judeţene de Asigurặri de Sặnặtate) instituciones públicas autónomas, dirigidas por representantes de los asegurados y de los patronatos a través de consejos de administració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Gestión y administración de los fondos; utilización del  96% para cubrir el pago de servicios médicos, medicamentos, material y equipamiento sanitario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Oficinas territorial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Verdana"/>
              </a:rPr>
              <a:t>Característica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Ley 145/2002 sobre la Seguridad Social : primera normativa que presenta los principios de este sistema y presenta sus características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sistema unitario de protección social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elección del médico de cabecera, del centro de salud y de la casa de seguridad social por el usuario/paciente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delimitación y reglamentación del paquete de servicios médicos financiados por contribuciones y subvenciones del Estado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equilibrio económico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descentralización del sistema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solidaridad y subsidio en recogida y utilización de fondo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accesibilidad en la prestación de servicios médicos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Sistema de Seguridad Social: 3 componentes fundamental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asegurado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proveedores de servicios (médicos, hospitales, farmacias, etc.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casas de seguridad social</a:t>
            </a:r>
            <a:br>
              <a:rPr sz="1400"/>
            </a:b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O.U.G. nr. 150/2002: creación del Fondo Nacional Único de Seguridad Social (Fond naţional unic de asigurặri sociale de sặnặtate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Verdana"/>
              </a:rPr>
              <a:t>Organización del sistema sanitario rumano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Sistema público de salu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eguridad Social: principal sistema de financiación de la protección de la salud y se basa en la prestación de un paquete de servicios fundamentales y obligatorio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Asegurados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ciudadanos rumanos con domicilio estable en Rumaní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extranjeros y apatridas con residencia temporal o permanente, afiliados a la Seguridad Soci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D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iferentes categorias</a:t>
            </a: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: p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ueden beneficiarse del seguro médico sin haber contribuído a la seguridad social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Verdana"/>
              </a:rPr>
              <a:t>Centros sanitarios y acceso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Tipos de centros sanitario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Atención primar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Centros de salud (Centre de sặnặtate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, dispensare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Atención Especializad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Hospitales ( Spitale), ambulatorios (policlinici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Centros médicos (Centre medicale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Vías de acceso al sistema sanitario ruman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Tarjeta Sanitaria (Carnet de Sặnặtat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Tarjeta Sanitaria Europea (Card Sanitar European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Reconoce el derecho a recibir las prestaciones sanitarias en las mismas condiciones que los nacionales durantes una estancia temporal en cualquiera de los países de la UE, del Espacio Económico Europeo y de Suiza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Verdana"/>
              </a:rPr>
              <a:t>Característica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Médico de cabecera (Medic de famili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la asistencia primaria se realiza sólo a través del médico de cabecera al que se le debe aportar prueba de la contribución al Fondo Nacional Único de Seguridad Social (Fond naţional unic de asigurặri sociale de sặnặtate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atención especializada: los pacientes han de ser remitidos por el médico de cabecera al especialista o, según el caso, directamente ingresados en el hospita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el médico especialista también puede recomendar el ingreso en el hospital</a:t>
            </a:r>
            <a:br>
              <a:rPr sz="1800"/>
            </a:b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estomatología: las unidades acreditadas que tienen relaciones contractuales con la Seguridad Social.</a:t>
            </a:r>
            <a:br>
              <a:rPr sz="1800"/>
            </a:b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99"/>
                </a:solidFill>
                <a:latin typeface="Verdana"/>
              </a:rPr>
              <a:t>Urgencias</a:t>
            </a:r>
            <a:br>
              <a:rPr sz="2400"/>
            </a:br>
            <a:r>
              <a:rPr b="1" lang="ro-RO" sz="2400" spc="-1" strike="noStrike">
                <a:solidFill>
                  <a:srgbClr val="006699"/>
                </a:solidFill>
                <a:latin typeface="Verdana"/>
              </a:rPr>
              <a:t>cualquier médico de cualquier centro, sin ningún tipo de documentación, aunque se recomienda acudir primero al médico de cabecera  (en persona o por teléfono)</a:t>
            </a:r>
            <a:br>
              <a:rPr sz="2400"/>
            </a:br>
            <a:r>
              <a:rPr b="1" lang="ro-RO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Verdana"/>
              </a:rPr>
              <a:t>Recetas</a:t>
            </a:r>
            <a:r>
              <a:rPr b="0" lang="ro-RO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6699"/>
                </a:solidFill>
                <a:latin typeface="Verdana"/>
              </a:rPr>
              <a:t>para medicamentos a bajo coste</a:t>
            </a:r>
            <a:r>
              <a:rPr b="0" lang="ro-RO" sz="2400" spc="-1" strike="noStrike">
                <a:solidFill>
                  <a:srgbClr val="006699"/>
                </a:solidFill>
                <a:latin typeface="Verdana"/>
              </a:rPr>
              <a:t> o gratuit</a:t>
            </a:r>
            <a:r>
              <a:rPr b="0" lang="es-ES_tradnl" sz="2400" spc="-1" strike="noStrike">
                <a:solidFill>
                  <a:srgbClr val="006699"/>
                </a:solidFill>
                <a:latin typeface="Verdana"/>
              </a:rPr>
              <a:t>o</a:t>
            </a:r>
            <a:r>
              <a:rPr b="0" lang="ro-RO" sz="2400" spc="-1" strike="noStrike">
                <a:solidFill>
                  <a:srgbClr val="006699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99"/>
                </a:solidFill>
                <a:latin typeface="Verdana"/>
              </a:rPr>
              <a:t>médicos que tengan relaciones contractuales con la seguridad social</a:t>
            </a:r>
            <a:br>
              <a:rPr sz="2400"/>
            </a:br>
            <a:r>
              <a:rPr b="1" lang="ro-RO" sz="2400" spc="-1" strike="noStrike">
                <a:solidFill>
                  <a:srgbClr val="006699"/>
                </a:solidFill>
                <a:latin typeface="Verdana"/>
              </a:rPr>
              <a:t>listas de medicamentos aprobadas por el Gobierno</a:t>
            </a:r>
            <a:br>
              <a:rPr sz="2400"/>
            </a:b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99"/>
                </a:solidFill>
                <a:latin typeface="Verdana"/>
              </a:rPr>
              <a:t>Atención al paciente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99"/>
                </a:solidFill>
                <a:latin typeface="Verdana"/>
              </a:rPr>
              <a:t>médico de cabecera: sin cita previa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6666"/>
                </a:solidFill>
                <a:latin typeface="Verdana"/>
              </a:rPr>
              <a:t>Sistema privado de salud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Ley 212/ 2004 sobre seguros privados de salu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istema opcional y suplimentario al sistema público de salu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e basa en el principio de la mutualida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3 tipos</a:t>
            </a: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 de seguros médicos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complementario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 – cubre totalmente o parcialmente gastos generados por prestaciones médicas no cubiertas por la seguridad social en su paquete de servicios „básicos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suplementario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 - cubre totalmente o parcialmente gastos para obtener prestaciones más rápidas o diferentes (acceso rápido a servicios médicos, listas de espera, servicios médicos en otros países, etc</a:t>
            </a: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substitutivo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 - cubre totalmente o parcialmente gastos para cualquier tipo de prestaciones médicas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55920" y="596520"/>
            <a:ext cx="355608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360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istema sanitario español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escripción general y financiació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sistencia hospitalaria y médica gratuit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dos los trabajadores deben afiliarse a la Seguridad Soci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da trabajador paga una cuota mensual a la Seguridad Soci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 debe solicitar una Tarjeta Sanitar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emás se pueden contratar seguros privad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escripción general y financiació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s Comunidades Autónomas han asumido las competencias sobre la sanidad (Consejerías de Educación, Servicios Regionales de Salud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l Sistema Nacional de Salud (INGESA) es garante de las prestacion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ervicio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DAS las personas tienen derecha a la asistencia sanitaria a través del Sistema Nacional de Salu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tención Primari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rgenci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pecialistas (el médico de familia envía al paciente al especialist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xisten convenios para servicios especiales (optometrí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xtranjero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Todos los trabajadores extranjeros deben contribuir a la Seguridad Soci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La Seguridad Social cubre asistencia sanitaria para ellos y sus famili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La tarjeta sanitaria puede solicitarse en el centro de salud más próximo presentando volante de empadronamient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Los ciudadanos de la UE tienen derecho automáticamente a asistencia sanitaria gratuita (European Health Insurance Card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rgencia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Verdana"/>
              </a:rPr>
              <a:t>La ley garantiza la atención de urgenci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TÍTULO I. DERECHOS Y LIBERTADES DE LOS EXTRANJERO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CAPÍTULO I. DERECHOS Y LIBERTADES DE LOS EXTRANJERO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Artículo 12.</a:t>
            </a:r>
            <a:r>
              <a:rPr b="0" lang="es-ES" sz="1600" spc="-1" strike="noStrike">
                <a:solidFill>
                  <a:srgbClr val="006699"/>
                </a:solidFill>
                <a:latin typeface="Verdana"/>
              </a:rPr>
              <a:t> Derecho a la asistencia sanitaria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1. Los extranjeros que se encuentren en España inscritos en el padrón del municipio en el que residan habitualmente, tienen derecho a la asistencia sanitaria en las mismas condiciones que los españole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2. Los extranjeros que se encuentren en España tienen derecho a la asistencia sanitaria pública de urgencia ante la contracción de enfermedades graves o accidentes, cualquiera que sea su causa, y a la continuidad de dicha atención hasta la situación de alta médica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3. Los extranjeros menores de dieciocho años que se encuentren en España tienen derecho a la asistencia sanitaria en las mismas condiciones que los españole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4. Las extranjeras embarazadas que se encuentren en España tendrán derecho a la asistencia sanitaria durante el embarazo, parto y posparto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armacia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 encuentran fuera de los hospitales y los centros de salu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 turnan para ofrecer un servicio fuera del horario comerci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ay medicamentos que se pueden adquirir sin recetas. Para otros es obligatori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esentando una receta, los medicamentos salen más barat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os farmacéuticos pueden aconsejar a sus clientes sobre tratamientos para dolencias comun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6666"/>
                </a:solidFill>
                <a:latin typeface="Verdana"/>
              </a:rPr>
              <a:t>Sistema Sanitario ruman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3:18:11Z</dcterms:created>
  <dc:creator>USUARIO</dc:creator>
  <dc:description/>
  <dc:language>en-US</dc:language>
  <cp:lastModifiedBy>USUARIO</cp:lastModifiedBy>
  <dcterms:modified xsi:type="dcterms:W3CDTF">2010-11-04T14:14:29Z</dcterms:modified>
  <cp:revision>2</cp:revision>
  <dc:subject/>
  <dc:title>Sistemas sanitarios español y rumano </dc:title>
</cp:coreProperties>
</file>